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8522-920F-4E2A-80D7-0009695A91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AF56-8FAA-4305-B01F-C0F9EA0999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5CF-AE54-47C8-B37F-A0735825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538-5C34-4DB2-9E7D-175D2A62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25D-B9D8-474C-B6DA-D4CF1D78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E49-DC61-441E-98F3-5556EFA9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600-2D0E-4FB6-B65F-606077DC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018-0DE6-441C-89EF-9DBFCC2B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378-CFCA-4C66-A436-097BFE53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46F-F5F6-4D38-817F-8F88F9E7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629-0087-4434-8985-C734B9B4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0D00-6FC4-4B51-991B-E26BE709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C0A-3E11-4BBF-90B4-A5A74313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1C0-8061-4849-80E8-CA8EEA0F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FE91-AA02-4941-BABA-56757CAF17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oopnm.ru/" TargetMode="External"/><Relationship Id="rId2" Type="http://schemas.openxmlformats.org/officeDocument/2006/relationships/hyperlink" Target="http://oopnm.ru/" TargetMode="External"/><Relationship Id="rId3" Type="http://schemas.openxmlformats.org/officeDocument/2006/relationships/hyperlink" Target="http://oopnm.r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66560" y="404640"/>
            <a:ext cx="8209080" cy="59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езентация для родительского собр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 выбору модуля ОРКС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Цель, задачи и 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чебного предмета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«ОСНОВЫ ПРАВОСЛАВНОЙ КУЛЬТУРЫ» (ОПК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зучаемого в рамках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омплексного кур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Основы религиозных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светской этики»(ОРКС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Подготовлено Отделом образования и просве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Новосибирской Митрополии Русской Православной Церк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79280" y="335772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79280" y="-6103800"/>
            <a:ext cx="8964720" cy="22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.3, ст.87: «</a:t>
            </a: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Примерные основные программы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части учебных предметов, курсов, дисциплин (модулей), направленных на получение обучающимися знаний об основах духовно-нравственной культуры народов России 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проходят экспертизу в централизованной религиозной организации на предмет соответствия их содержания вероучению, историческим и культурным традициям этой организации в соответствии с ее внутренними установлениями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.6, ст.87: «К учебно-методическому обеспечению учебных предметов по основам религиозной культуры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привлекаются 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соответствующие религиозные организаци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ультурно-историческую и духовно-нравственную традици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95280" y="328932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равославие имеет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«особую роль в истории России, в становлении её духовности и культуры».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04_baptism-of-russia"/>
          <p:cNvPicPr/>
          <p:nvPr/>
        </p:nvPicPr>
        <p:blipFill>
          <a:blip r:embed="rId1"/>
          <a:stretch/>
        </p:blipFill>
        <p:spPr>
          <a:xfrm>
            <a:off x="3132000" y="260280"/>
            <a:ext cx="2387880" cy="2952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24000" y="5164200"/>
            <a:ext cx="852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акон Российской Федерации «О свободе совести и о религиозных объединениях». Принят Государственной Думой 19 июля 1997 г.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еамбула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50920" y="213372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79280" y="128160"/>
            <a:ext cx="8805960" cy="65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Основы православной культуры» помогут учащимся понять высокий смысл слов Государственного Гимна России: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«Россия — священная наша держава» — «Хранимая Богом родная земл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Этот учебный предмет будет знакомить  учащихся с такими важнейшими духовно-нравственными понятиями, как «Родина», «Отечество», «родная земля», «родная страна», «родной край», «родная речь», «родной язык», «родная литература», «столица нашей Родин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39640" y="109368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еподавание в школе основ православной культуры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не является противопоставлением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преподаванию основ других религиозных культур, предусмотренных комплексным курсом ОРКСЭ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ославие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не противопоставляетс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другим религиозным верова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994200" y="534960"/>
            <a:ext cx="5041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, у нас и у представителей нехристианских религий – разные представления о Боге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о Его отношении к человеку, разные традиции, отличающийся образ жизни.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о основные нравственные представления традиционных религий во многом близки,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 позволяет им сообща противостоять вызовам морального нигилизма, агрессивного безбож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924360" y="5800680"/>
            <a:ext cx="4968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33399"/>
                </a:solidFill>
                <a:latin typeface="Arial"/>
              </a:rPr>
              <a:t>Патриарх Московский и всея Руси Кирилл. </a:t>
            </a:r>
            <a:br>
              <a:rPr sz="1700"/>
            </a:br>
            <a:r>
              <a:rPr b="1" i="1" lang="ru-RU" sz="1700" spc="-1" strike="noStrike">
                <a:solidFill>
                  <a:srgbClr val="333399"/>
                </a:solidFill>
                <a:latin typeface="Arial"/>
              </a:rPr>
              <a:t>Из выступления на Поместном Соборе </a:t>
            </a:r>
            <a:br>
              <a:rPr sz="1700"/>
            </a:br>
            <a:r>
              <a:rPr b="1" i="1" lang="ru-RU" sz="1700" spc="-1" strike="noStrike">
                <a:solidFill>
                  <a:srgbClr val="333399"/>
                </a:solidFill>
                <a:latin typeface="Arial"/>
              </a:rPr>
              <a:t>Русской Православной Церкви. 2009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4460" t="0" r="0" b="0"/>
          <a:stretch/>
        </p:blipFill>
        <p:spPr>
          <a:xfrm>
            <a:off x="372960" y="476280"/>
            <a:ext cx="3407040" cy="4753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250920" y="52704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жнациональной, политической и социальной вражд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36720" y="126828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акие основы изучаются при освоении учебного предме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«Основы православной культуры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50920" y="0"/>
            <a:ext cx="84963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сторические основы православной культуры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тигая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сторические основы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равославной культуры России, школьник знакомится со священными страницами родной истории, воспитывается в любви к Родине и в духе миролюб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2. Нравственные основы православн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учая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равственные основы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равославной культуры, школьник узнает, как на Руси дети относились к своим родителям, как наши предки стояли за правду, как защищали родную землю и  дружелюбно относились к людям других верований и культу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ез это учащиеся имеют возможность ознакомиться с православными традициями и праздниками, а также с миром православной культуры в ц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00000" y="33336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005440" y="112680"/>
            <a:ext cx="4103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нцепцию духовно-нравственного воспитания школьника на основе традиционной российской педагогической традиции можно выразить заповедью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кадемика Дмитрия Сергеевича Лихаче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«Есть свет и тьма, есть благородство и низость, есть чистота и грязь: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о первых надо дорасти, а до вторых стоит ли опускаться? Выбирай достойное, а не легкое!"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imgB"/>
          <p:cNvPicPr/>
          <p:nvPr/>
        </p:nvPicPr>
        <p:blipFill>
          <a:blip r:embed="rId1"/>
          <a:stretch/>
        </p:blipFill>
        <p:spPr>
          <a:xfrm>
            <a:off x="0" y="0"/>
            <a:ext cx="48182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348000" y="333360"/>
            <a:ext cx="576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дняя школа должна воспитывать человека, способного осваивать новую профессию, быть достаточно способным к новым профессиям и быть прежде всего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равственным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Ибо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равственная осно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— это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лавное, что определяет жизнеспособность общест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 экономическую, государственную, творческу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968720" y="6100920"/>
            <a:ext cx="42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Д.С.Лихачев. «Русская культура».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М.: «Искусство», 2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imgB"/>
          <p:cNvPicPr/>
          <p:nvPr/>
        </p:nvPicPr>
        <p:blipFill>
          <a:blip r:embed="rId1"/>
          <a:stretch/>
        </p:blipFill>
        <p:spPr>
          <a:xfrm>
            <a:off x="128520" y="73080"/>
            <a:ext cx="3075120" cy="3860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1280" y="400536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оспитывают же людей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прямую — религи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а более сложным путем — музыка (особенно, я бы сказал, хоровое пение), литература, искусство, изучение логики, психологии, изучение языков (даже если их в будущем не придется применять в жизни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Исторические и нравств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основы православной культу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помогают научить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брым дела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ли по старинному -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добродете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941" t="0" r="0" b="19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\\Left\d\Директор\Доклады\2014 областная августовская конференция\jpg\concept_d-n_razv_lichn.jpg"/>
          <p:cNvPicPr/>
          <p:nvPr/>
        </p:nvPicPr>
        <p:blipFill>
          <a:blip r:embed="rId2"/>
          <a:stretch/>
        </p:blipFill>
        <p:spPr>
          <a:xfrm>
            <a:off x="179280" y="115920"/>
            <a:ext cx="4275360" cy="6578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4716360" y="115920"/>
            <a:ext cx="439272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Современный национальный воспитательный идеал — это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ысоконравственный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корененный в духовных и культурных традициях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гонационального народа Российской Федерац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2010 год. «Концепция…». С. 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932360" y="14590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бразование — это воспитание для добродела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506920" y="3860640"/>
            <a:ext cx="316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99"/>
                </a:solidFill>
                <a:latin typeface="Arial"/>
              </a:rPr>
              <a:t>В.А. Жуков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4170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79280" y="1341360"/>
            <a:ext cx="849636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омоч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школьнику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вырасти добрым и честным, трудолюбивым и ответственным, почтительным к родителям, благодарным к учителям и воспитателям, любящим свою Родину, стремящимся помогать тем, кто нуждается в помощи, и благожелательно относящимся к людям других национальностей, верований и убежд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семье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воспитать добронравных сыновей и дочерей, продолжателей своего род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школе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воспитать свободных и ответственных граждан Росс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68360" y="18900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Цель изучения в школе основ православной культуры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—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24000" y="1317600"/>
            <a:ext cx="871200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ознакомление с базовыми понятиями нравственности: добро и зло, правда и ложь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воспитание благодарности, дружелюбия,  честности, осторожности, ответственности, трудолюбия, милосерд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формирование представлений о духовно-нравственных ценностях семьи, общества, государ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становление доброго (нравственного) поведения путём  привития  вкуса к добрым стремлениям, </a:t>
            </a:r>
            <a:br>
              <a:rPr sz="2600"/>
            </a:b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а главное – к добрым поступкам и дела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воспитание патриотизма и высокой гражданственности. </a:t>
            </a: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68360" y="1159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Задачи изучения в школе основ православной культур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50920" y="285840"/>
            <a:ext cx="8496360" cy="62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уховно-нравственное воспитание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будучи основанным на многовековых российских педагогических традициях,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могает привить школьнику тот нравственный иммунитет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й ему очень необходим для противостояния всё более растущим эгоизму, распущенности, жадности, потребительству, сквернословию, безжалостности, жестокости, блужданиям в виртуальном мире,  а также втягиванию в наркоманию, разврат и преступные со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понимание цели и смысла жизни, подражание кумирам, которые в буквальном смысле губят свою жизнь – всё это нередко приводит к тому, что и школьники перестают ценить жизнь…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900000" y="33336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39640" y="1978200"/>
            <a:ext cx="820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СОДЕРЖАНИЕ УЧЕБНОГО ПРЕДМ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«ОСНОВЫ ПРАВОСЛАВНОЙ КУЛЬТУР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9280" y="1413000"/>
            <a:ext cx="428472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екомендовано Секцией гуманитарного образования экспертного совета НИПКиПРО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 внедрению в педагогическую практику образовательных учреждений разных видов и типов с целью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вития методического обеспечения комплексного учебного курса «Основы религиозных культур и светской этики» для общеобразовательных школ, образовательных компонентов Базисного учебного плана в начальном и основном общем образовании;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к методическое обеспечение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одержания дополнительного образов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464000" cy="65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opk_Page_004"/>
          <p:cNvPicPr/>
          <p:nvPr/>
        </p:nvPicPr>
        <p:blipFill>
          <a:blip r:embed="rId1"/>
          <a:srcRect l="0" t="0" r="2350" b="0"/>
          <a:stretch/>
        </p:blipFill>
        <p:spPr>
          <a:xfrm>
            <a:off x="3995640" y="0"/>
            <a:ext cx="5148360" cy="6958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opk_Page_006"/>
          <p:cNvPicPr/>
          <p:nvPr/>
        </p:nvPicPr>
        <p:blipFill>
          <a:blip r:embed="rId2"/>
          <a:srcRect l="0" t="0" r="0" b="49406"/>
          <a:stretch/>
        </p:blipFill>
        <p:spPr>
          <a:xfrm>
            <a:off x="0" y="333360"/>
            <a:ext cx="4419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opk_Page_005"/>
          <p:cNvPicPr/>
          <p:nvPr/>
        </p:nvPicPr>
        <p:blipFill>
          <a:blip r:embed="rId1"/>
          <a:srcRect l="0" t="0" r="6068" b="2814"/>
          <a:stretch/>
        </p:blipFill>
        <p:spPr>
          <a:xfrm>
            <a:off x="4121280" y="0"/>
            <a:ext cx="50227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opk_Page_172"/>
          <p:cNvPicPr/>
          <p:nvPr/>
        </p:nvPicPr>
        <p:blipFill>
          <a:blip r:embed="rId2"/>
          <a:srcRect l="0" t="0" r="1602" b="48793"/>
          <a:stretch/>
        </p:blipFill>
        <p:spPr>
          <a:xfrm>
            <a:off x="0" y="476280"/>
            <a:ext cx="44038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7_CHasovn_a4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opn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ru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этот сайт выложен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чебно-методический комплект «Основы православной культуры»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для 4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. Рабочая программа ку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. Учебное пособие «Основы православной культуры» для 4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 Презентации к уро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. Рабочая тетрадь для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5. Книга для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6. Книга для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7. «Цветослов». Книга для семейного ч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этом же сайте имеется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кспертное заключение НИПКиПР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на учебно-методический комплект «Основы православной культуры» для учащихся 4-х классов общеобразовательных учреж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Федеральным конституционным законом с 1 сентября 2014 года было введено обязательное исполнение Государственного Гимна России</a:t>
            </a:r>
            <a:br>
              <a:rPr sz="32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в общеобразовательных организациях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и профессиональных образовательных организациях независимо от форм собственности –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еред первым уроком (занятием) в день начала нового учебного год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(По новому Закону «Об образовании в РФ» (№ 273-ФЗ) все школы, гимназии и лицеи называются «общеобразовательными организациями»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059280" y="1484280"/>
            <a:ext cx="576072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оссия — священная наша держава,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оссия — любимая наша страна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гучая воля, великая слава —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вое достоянье на все време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лавься, Отечество наше свободное,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Братских народов союз вековой,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едками данная мудрость народная!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лавься, страна! Мы гордимся тобо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 южных морей до полярного кра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скинулись наши леса и поля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дна ты на свете! Одна ты такая —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Хранимая Богом родная земл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Широкий простор для мечты и для жизни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рядущие нам открывают года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м силу дает наша верность Отчизне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к было, так есть и так будет всегд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987640" y="4762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осударственный гимн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059280" y="1484280"/>
            <a:ext cx="576072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оссия —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вященная наша держава,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оссия — любимая наша страна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гучая воля, великая слава —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вое достоянье на все време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лавься, Отечество наше свободное,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Братских народов союз вековой,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едками данная мудрость народная!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лавься, страна! Мы гордимся тобо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 южных морей до полярного кра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скинулись наши леса и поля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дна ты на свете! Одна ты такая —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Хранимая Богом родная земл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Широкий простор для мечты и для жизни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рядущие нам открывают года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м силу дает наша верность Отчизне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к было, так есть и так будет всегд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059280" y="1484280"/>
            <a:ext cx="576072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оссия —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вященная наша держава,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оссия — любимая наша страна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гучая воля, великая слава —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вое достоянье на все време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лавься, Отечество наше свободное,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Братских народов союз вековой,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едками данная мудрость народная!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лавься, страна! Мы гордимся тобо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 южных морей до полярного кра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скинулись наши леса и поля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дна ты на свете! Одна ты такая —</a:t>
            </a:r>
            <a:br>
              <a:rPr sz="1800"/>
            </a:b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Хранимая Богом родная земля!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Широкий простор для мечты и для жизни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рядущие нам открывают года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м силу дает наша верность Отчизне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к было, так есть и так будет всегд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1-800"/>
          <p:cNvPicPr/>
          <p:nvPr/>
        </p:nvPicPr>
        <p:blipFill>
          <a:blip r:embed="rId1"/>
          <a:srcRect l="18330" t="0" r="18330" b="0"/>
          <a:stretch/>
        </p:blipFill>
        <p:spPr>
          <a:xfrm>
            <a:off x="179280" y="333360"/>
            <a:ext cx="27370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1116000" y="549360"/>
            <a:ext cx="684072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Почем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Росси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мы называ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СВЯЩЕННОЙ ДЕРЖАВО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ushinskii"/>
          <p:cNvPicPr/>
          <p:nvPr/>
        </p:nvPicPr>
        <p:blipFill>
          <a:blip r:embed="rId1"/>
          <a:stretch/>
        </p:blipFill>
        <p:spPr>
          <a:xfrm>
            <a:off x="108000" y="331920"/>
            <a:ext cx="4562280" cy="597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4356000" y="3983040"/>
            <a:ext cx="46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онстантин Дмитриевич 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Ушинский (1824 – 18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932360" y="162864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ного есть на свете и кроме России всяких хороших государств и земель, но как одна у человека мама, так одна у него и Родина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564000" y="189000"/>
            <a:ext cx="55800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«Не будем бояться этих слов – </a:t>
            </a:r>
            <a:r>
              <a:rPr b="1" i="1" lang="ru-RU" sz="2200" spc="-1" strike="noStrike">
                <a:solidFill>
                  <a:srgbClr val="cc0000"/>
                </a:solidFill>
                <a:latin typeface="Arial"/>
              </a:rPr>
              <a:t>святое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i="1" lang="ru-RU" sz="2200" spc="-1" strike="noStrike">
                <a:solidFill>
                  <a:srgbClr val="cc0000"/>
                </a:solidFill>
                <a:latin typeface="Arial"/>
              </a:rPr>
              <a:t>незыблемое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«Когда речь идет о моральном облике нового человека, то в слова святое и незыблемое вкладывается конкретный смысл: это то, чем человек дорожит, как собственной честью и достоинством, то, чем он не может поступиться ни при каких обстоятельств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3300"/>
                </a:solidFill>
                <a:latin typeface="Arial"/>
              </a:rPr>
              <a:t>У человека, которого мы воспитываем, должны быть святые истины и святые имена, святые принципы и святые непререкаемые правила поведения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38240" y="189000"/>
            <a:ext cx="3281400" cy="4464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4920" y="4724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асилий Александрович Сухомлинский (1918-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08000" y="551664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 книги «Разговор с молодым директором школы», раздел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«Как добиться, чтобы в душе каждого человека утвердилось святое и незыблемо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(В.А.Сухомлинский. Избранные педагогические сочинения. В трех томах. Том третий. Изд. «Педагогика»: Москва, 1981. С.11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79280" y="3330720"/>
            <a:ext cx="878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ссия — наша Родина. Введение в православную духовную традицию. Культура и религия. Во что верят православные христиане. «Добро» и «зло» с точки зрения православной традиции. Золотое правило нравственности. Любовь к ближнему. Отношение к труду. Долг и ответственность. Милосердие и сострадание. Православие в России. Православный храм и другие святыни. Символический язык православной культуры: христианское искусство (иконы, фрески, церковное пение, прикладное искусство), православный календарь. Праздники. Христианская семья и её ценности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1082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619280" y="69228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Содержание основной образовательной программы</a:t>
            </a:r>
            <a:br>
              <a:rPr sz="22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извлечение по основам православной культу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692360" y="2421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сновы православн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79280" y="335772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79280" y="-6042960"/>
            <a:ext cx="8964720" cy="22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29 декабря 2012 года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зидентом России В.В.Путиным был подпис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 с 1сентября 2013 года вступил в силу н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Федеральный Закон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(№ 273 – Ф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б особенностях изучения предмет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комплексного курса ОРКС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ласит 87-я статья этого Федерального З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.1 ст.87 говорит о том, что учебные предметы, курсы, модули, направленные на получение обучающимися знаний об основах духовно-нравственной культуры народов России вводятся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в целях формирования и развития личности в соответствии 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с семейными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 и общественными социокультурными ценностям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.2, ст.87: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Выбор одного из учебных предметов, курсов, дисциплин (модулей), включенных в основные общеобразовательные программы, осуществляется 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родителями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 (законными представителями) обучающихся»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ультурно-историческую и духовно-нравственную традици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0:03:30Z</dcterms:created>
  <dc:creator>eugene</dc:creator>
  <dc:description/>
  <dc:language>en-US</dc:language>
  <cp:lastModifiedBy>User</cp:lastModifiedBy>
  <dcterms:modified xsi:type="dcterms:W3CDTF">2021-10-11T07:36:06Z</dcterms:modified>
  <cp:revision>26</cp:revision>
  <dc:subject/>
  <dc:title>Презентация PowerPoint</dc:title>
</cp:coreProperties>
</file>